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E065BB1-DBF1-46B3-A58E-7163018CE453}"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65E99950-66A1-46ED-A395-E34EE46126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6201F5C4-9ED1-4828-8F1A-9FF3EF8BD3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2F9AFE52-AAAC-41D8-B3CE-1FA8DC0BEAA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51F52E2-D5A4-4C2B-A1D0-BF12EFBC93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870FDF1-1111-4506-8905-A6107DEE17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DE863B02-8A5A-4372-9C4E-E7A08602DE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A4165C4B-F08B-4111-AC52-E0E756BD4E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5CC61F7A-F04F-4556-BCFD-9E4ABAFCD8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B52F09E-3C40-4889-98E8-11FAC32769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82B8124-2E8B-40D0-B79A-8B8C44A238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BC25CAC-8CF1-432B-B7F6-013EC4233870}"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95E77-8D08-49E6-AC50-E1F63F62625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 guide to CEDV parameters calculation in MathCa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73" name="PlaceHolder 2"/>
          <p:cNvSpPr>
            <a:spLocks noGrp="1"/>
          </p:cNvSpPr>
          <p:nvPr>
            <p:ph/>
          </p:nvPr>
        </p:nvSpPr>
        <p:spPr>
          <a:xfrm>
            <a:off x="3276360" y="1143000"/>
            <a:ext cx="5715000" cy="449568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74" name="" descr=""/>
          <p:cNvPicPr/>
          <p:nvPr/>
        </p:nvPicPr>
        <p:blipFill>
          <a:blip r:embed="rId1"/>
          <a:stretch/>
        </p:blipFill>
        <p:spPr>
          <a:xfrm>
            <a:off x="685800" y="1066680"/>
            <a:ext cx="2495520" cy="50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76" name="" descr=""/>
          <p:cNvPicPr/>
          <p:nvPr/>
        </p:nvPicPr>
        <p:blipFill>
          <a:blip r:embed="rId1"/>
          <a:stretch/>
        </p:blipFill>
        <p:spPr>
          <a:xfrm>
            <a:off x="1835280" y="1197000"/>
            <a:ext cx="5400720" cy="490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78" name="" descr=""/>
          <p:cNvPicPr/>
          <p:nvPr/>
        </p:nvPicPr>
        <p:blipFill>
          <a:blip r:embed="rId1"/>
          <a:stretch/>
        </p:blipFill>
        <p:spPr>
          <a:xfrm>
            <a:off x="1871640" y="1260360"/>
            <a:ext cx="5400720" cy="433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80" name="" descr=""/>
          <p:cNvPicPr/>
          <p:nvPr/>
        </p:nvPicPr>
        <p:blipFill>
          <a:blip r:embed="rId1"/>
          <a:stretch/>
        </p:blipFill>
        <p:spPr>
          <a:xfrm>
            <a:off x="1871640" y="1125360"/>
            <a:ext cx="4724280" cy="505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8T15:31:50Z</dcterms:created>
  <dc:creator>Evgenij Barsoukov</dc:creator>
  <dc:description/>
  <dc:language>en-US</dc:language>
  <cp:lastModifiedBy>Evgenij Barsoukov</cp:lastModifiedBy>
  <dcterms:modified xsi:type="dcterms:W3CDTF">2004-06-18T15:33:40Z</dcterms:modified>
  <cp:revision>1</cp:revision>
  <dc:subject/>
  <dc:title>Simple guide to CEDV parameters calculation in MathCad</dc:title>
</cp:coreProperties>
</file>